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6F06-953B-4D8C-8E47-FC17BFCC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C145-FEE0-4E96-9710-16C62E1D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576-FFFD-461F-9793-9C4AEE43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FBF5-3182-4C94-80C7-2CE58BB0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329F-E33A-4BFC-814F-22FA95A2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668-F283-4107-8CFA-7EA382BA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E1A0-E874-42A1-8433-4E301244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8A5B-66E9-42BB-A725-426A8E54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AF8-9025-4CF1-BCDD-24DFADD4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493-2C8C-4BF2-93F9-AE961089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1A79-7D4B-449A-9808-992F7F3A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2A6-9A00-4210-AABC-72CCD5CD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F1C0-AFDB-4A78-A6BB-CDBEC31C66E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slide" Target="slide10.xml"/><Relationship Id="rId9" Type="http://schemas.openxmlformats.org/officeDocument/2006/relationships/slide" Target="slide13.xml"/><Relationship Id="rId10" Type="http://schemas.openxmlformats.org/officeDocument/2006/relationships/slide" Target="slide11.xml"/><Relationship Id="rId11" Type="http://schemas.openxmlformats.org/officeDocument/2006/relationships/slide" Target="slide9.xml"/><Relationship Id="rId12" Type="http://schemas.openxmlformats.org/officeDocument/2006/relationships/slide" Target="slide15.xml"/><Relationship Id="rId13" Type="http://schemas.openxmlformats.org/officeDocument/2006/relationships/slide" Target="slide14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 the number puzz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08428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ench-maths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187280" y="1916280"/>
          <a:ext cx="2304720" cy="2160000"/>
        </p:xfrm>
        <a:graphic>
          <a:graphicData uri="http://schemas.openxmlformats.org/drawingml/2006/table">
            <a:tbl>
              <a:tblPr/>
              <a:tblGrid>
                <a:gridCol w="766800"/>
                <a:gridCol w="770760"/>
                <a:gridCol w="767160"/>
              </a:tblGrid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5796000" y="1701720"/>
            <a:ext cx="57456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59640" y="3141720"/>
            <a:ext cx="57456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5280" y="3141720"/>
            <a:ext cx="57456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6000" y="4438800"/>
            <a:ext cx="57456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51640" y="4365720"/>
            <a:ext cx="57492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2920" y="4365720"/>
            <a:ext cx="57492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Number Ti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3500280"/>
            <a:ext cx="403848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numbers 1 to 9 onto the squares so that they make a correct addition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1268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126828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64000" y="1268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242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242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242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242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4356000" y="4581360"/>
            <a:ext cx="460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4720" y="6165720"/>
            <a:ext cx="460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08360" y="242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6524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Arithmagon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3106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in the square is the sum of the two circ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place the correc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9236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5928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0072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8000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421000"/>
            <a:ext cx="1079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40720" y="5516640"/>
            <a:ext cx="10792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5373720"/>
            <a:ext cx="10792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859280" y="3429000"/>
            <a:ext cx="122544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595008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6732360" y="3357360"/>
            <a:ext cx="1368360" cy="21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137200">
            <a:off x="4876560" y="3933720"/>
            <a:ext cx="1152360" cy="93528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9594200">
            <a:off x="6948000" y="3933720"/>
            <a:ext cx="1152720" cy="93528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24360" y="5516640"/>
            <a:ext cx="1152720" cy="93492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2072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2492280"/>
            <a:ext cx="7905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6524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Arithmagon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3106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in the square is the sum of the two circ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place the correc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5928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0072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8000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4836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2421000"/>
            <a:ext cx="1079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40720" y="5516640"/>
            <a:ext cx="10792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67280" y="5373720"/>
            <a:ext cx="10792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859280" y="3429000"/>
            <a:ext cx="122544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48360" y="595008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6732360" y="3357360"/>
            <a:ext cx="1368360" cy="21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137200">
            <a:off x="4876560" y="3933720"/>
            <a:ext cx="1152360" cy="93528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9594200">
            <a:off x="6948000" y="3933720"/>
            <a:ext cx="1152720" cy="93528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5516640"/>
            <a:ext cx="1152720" cy="93492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2072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8764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2492280"/>
            <a:ext cx="7905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6524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Arithmagon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3106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in the square is the sum of the two circ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place the correc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5928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0072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4836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2421000"/>
            <a:ext cx="1079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740720" y="5516640"/>
            <a:ext cx="10792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67280" y="5373720"/>
            <a:ext cx="10792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59280" y="3429000"/>
            <a:ext cx="122544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48360" y="595008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6732360" y="3357360"/>
            <a:ext cx="1368360" cy="21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2137200">
            <a:off x="4876560" y="3933720"/>
            <a:ext cx="1152360" cy="93528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9594200">
            <a:off x="6948000" y="3933720"/>
            <a:ext cx="1152720" cy="93528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24360" y="5516640"/>
            <a:ext cx="1152720" cy="93492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2072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8764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2492280"/>
            <a:ext cx="7905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6524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Arithmagon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3106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in the square is the sum of the two circ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place the correc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0072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8000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4836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2421000"/>
            <a:ext cx="1079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740720" y="5516640"/>
            <a:ext cx="10792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67280" y="5373720"/>
            <a:ext cx="10792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859280" y="3429000"/>
            <a:ext cx="122544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48360" y="595008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6732360" y="3357360"/>
            <a:ext cx="1368360" cy="21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2137200">
            <a:off x="4876560" y="3933720"/>
            <a:ext cx="1152360" cy="93528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9594200">
            <a:off x="6948000" y="3933720"/>
            <a:ext cx="1152720" cy="93528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24360" y="5516640"/>
            <a:ext cx="1152720" cy="93492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836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2072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8764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84720" y="2492280"/>
            <a:ext cx="7905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6524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to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51200" y="1306800"/>
            <a:ext cx="6363000" cy="5410800"/>
            <a:chOff x="151200" y="1306800"/>
            <a:chExt cx="6363000" cy="5410800"/>
          </a:xfrm>
        </p:grpSpPr>
        <p:sp>
          <p:nvSpPr>
            <p:cNvPr id="254" name="_s15365"/>
            <p:cNvSpPr/>
            <p:nvPr/>
          </p:nvSpPr>
          <p:spPr>
            <a:xfrm flipH="1" flipV="1">
              <a:off x="2066400" y="1968840"/>
              <a:ext cx="655200" cy="179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5366"/>
            <p:cNvSpPr/>
            <p:nvPr/>
          </p:nvSpPr>
          <p:spPr>
            <a:xfrm>
              <a:off x="1712880" y="145440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367"/>
            <p:cNvSpPr/>
            <p:nvPr/>
          </p:nvSpPr>
          <p:spPr>
            <a:xfrm flipH="1" flipV="1">
              <a:off x="1414440" y="2347560"/>
              <a:ext cx="1227240" cy="146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368"/>
            <p:cNvSpPr/>
            <p:nvPr/>
          </p:nvSpPr>
          <p:spPr>
            <a:xfrm>
              <a:off x="981720" y="187920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369"/>
            <p:cNvSpPr/>
            <p:nvPr/>
          </p:nvSpPr>
          <p:spPr>
            <a:xfrm flipH="1" flipV="1">
              <a:off x="932040" y="2926080"/>
              <a:ext cx="1650960" cy="95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370"/>
            <p:cNvSpPr/>
            <p:nvPr/>
          </p:nvSpPr>
          <p:spPr>
            <a:xfrm>
              <a:off x="439560" y="252972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371"/>
            <p:cNvSpPr/>
            <p:nvPr/>
          </p:nvSpPr>
          <p:spPr>
            <a:xfrm flipH="1" flipV="1">
              <a:off x="675360" y="3636360"/>
              <a:ext cx="1875240" cy="32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372"/>
            <p:cNvSpPr/>
            <p:nvPr/>
          </p:nvSpPr>
          <p:spPr>
            <a:xfrm>
              <a:off x="151200" y="332532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373"/>
            <p:cNvSpPr/>
            <p:nvPr/>
          </p:nvSpPr>
          <p:spPr>
            <a:xfrm flipH="1">
              <a:off x="675360" y="4057560"/>
              <a:ext cx="187524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374"/>
            <p:cNvSpPr/>
            <p:nvPr/>
          </p:nvSpPr>
          <p:spPr>
            <a:xfrm>
              <a:off x="151200" y="417276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375"/>
            <p:cNvSpPr/>
            <p:nvPr/>
          </p:nvSpPr>
          <p:spPr>
            <a:xfrm flipH="1">
              <a:off x="933840" y="4142880"/>
              <a:ext cx="1648440" cy="95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376"/>
            <p:cNvSpPr/>
            <p:nvPr/>
          </p:nvSpPr>
          <p:spPr>
            <a:xfrm>
              <a:off x="441360" y="496872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377"/>
            <p:cNvSpPr/>
            <p:nvPr/>
          </p:nvSpPr>
          <p:spPr>
            <a:xfrm flipH="1">
              <a:off x="1418760" y="4213080"/>
              <a:ext cx="1221480" cy="146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378"/>
            <p:cNvSpPr/>
            <p:nvPr/>
          </p:nvSpPr>
          <p:spPr>
            <a:xfrm>
              <a:off x="983880" y="561708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379"/>
            <p:cNvSpPr/>
            <p:nvPr/>
          </p:nvSpPr>
          <p:spPr>
            <a:xfrm flipH="1">
              <a:off x="2070360" y="4258800"/>
              <a:ext cx="649440" cy="179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380"/>
            <p:cNvSpPr/>
            <p:nvPr/>
          </p:nvSpPr>
          <p:spPr>
            <a:xfrm>
              <a:off x="1715040" y="604008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381"/>
            <p:cNvSpPr/>
            <p:nvPr/>
          </p:nvSpPr>
          <p:spPr>
            <a:xfrm>
              <a:off x="2809080" y="4274640"/>
              <a:ext cx="2160" cy="19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15382"/>
            <p:cNvSpPr/>
            <p:nvPr/>
          </p:nvSpPr>
          <p:spPr>
            <a:xfrm>
              <a:off x="2547000" y="618732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15385"/>
            <p:cNvSpPr/>
            <p:nvPr/>
          </p:nvSpPr>
          <p:spPr>
            <a:xfrm>
              <a:off x="2898720" y="4258800"/>
              <a:ext cx="653400" cy="179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15386"/>
            <p:cNvSpPr/>
            <p:nvPr/>
          </p:nvSpPr>
          <p:spPr>
            <a:xfrm>
              <a:off x="3379680" y="604008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5387"/>
            <p:cNvSpPr/>
            <p:nvPr/>
          </p:nvSpPr>
          <p:spPr>
            <a:xfrm>
              <a:off x="2978280" y="4213080"/>
              <a:ext cx="1225440" cy="146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5388"/>
            <p:cNvSpPr/>
            <p:nvPr/>
          </p:nvSpPr>
          <p:spPr>
            <a:xfrm>
              <a:off x="4110840" y="561528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15389"/>
            <p:cNvSpPr/>
            <p:nvPr/>
          </p:nvSpPr>
          <p:spPr>
            <a:xfrm>
              <a:off x="3035880" y="4142880"/>
              <a:ext cx="1650960" cy="95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15390"/>
            <p:cNvSpPr/>
            <p:nvPr/>
          </p:nvSpPr>
          <p:spPr>
            <a:xfrm>
              <a:off x="4653000" y="496476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5391"/>
            <p:cNvSpPr/>
            <p:nvPr/>
          </p:nvSpPr>
          <p:spPr>
            <a:xfrm>
              <a:off x="3067920" y="4057560"/>
              <a:ext cx="187488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15392"/>
            <p:cNvSpPr/>
            <p:nvPr/>
          </p:nvSpPr>
          <p:spPr>
            <a:xfrm>
              <a:off x="4941000" y="416700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5393"/>
            <p:cNvSpPr/>
            <p:nvPr/>
          </p:nvSpPr>
          <p:spPr>
            <a:xfrm flipV="1">
              <a:off x="3067920" y="3632040"/>
              <a:ext cx="1874880" cy="33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5394"/>
            <p:cNvSpPr/>
            <p:nvPr/>
          </p:nvSpPr>
          <p:spPr>
            <a:xfrm>
              <a:off x="4939200" y="331920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5395"/>
            <p:cNvSpPr/>
            <p:nvPr/>
          </p:nvSpPr>
          <p:spPr>
            <a:xfrm flipV="1">
              <a:off x="3035880" y="2921760"/>
              <a:ext cx="1648440" cy="95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5396"/>
            <p:cNvSpPr/>
            <p:nvPr/>
          </p:nvSpPr>
          <p:spPr>
            <a:xfrm>
              <a:off x="4649040" y="252324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397"/>
            <p:cNvSpPr/>
            <p:nvPr/>
          </p:nvSpPr>
          <p:spPr>
            <a:xfrm flipV="1">
              <a:off x="2976480" y="2343960"/>
              <a:ext cx="1223280" cy="146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398"/>
            <p:cNvSpPr/>
            <p:nvPr/>
          </p:nvSpPr>
          <p:spPr>
            <a:xfrm>
              <a:off x="4104720" y="187488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399"/>
            <p:cNvSpPr/>
            <p:nvPr/>
          </p:nvSpPr>
          <p:spPr>
            <a:xfrm flipV="1">
              <a:off x="2896560" y="1967040"/>
              <a:ext cx="651600" cy="179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00"/>
            <p:cNvSpPr/>
            <p:nvPr/>
          </p:nvSpPr>
          <p:spPr>
            <a:xfrm>
              <a:off x="3373560" y="145224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01"/>
            <p:cNvSpPr/>
            <p:nvPr/>
          </p:nvSpPr>
          <p:spPr>
            <a:xfrm flipV="1">
              <a:off x="2807280" y="1837440"/>
              <a:ext cx="0" cy="191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02"/>
            <p:cNvSpPr/>
            <p:nvPr/>
          </p:nvSpPr>
          <p:spPr>
            <a:xfrm>
              <a:off x="2543040" y="130680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03"/>
            <p:cNvSpPr/>
            <p:nvPr/>
          </p:nvSpPr>
          <p:spPr>
            <a:xfrm>
              <a:off x="2543040" y="3749760"/>
              <a:ext cx="528120" cy="530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11640" y="2637360"/>
              <a:ext cx="502560" cy="504000"/>
            </a:xfrm>
            <a:prstGeom prst="ellipse">
              <a:avLst/>
            </a:prstGeom>
            <a:gradFill rotWithShape="0">
              <a:gsLst>
                <a:gs pos="0">
                  <a:srgbClr val="f1f626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11640" y="3859920"/>
              <a:ext cx="502560" cy="504720"/>
            </a:xfrm>
            <a:prstGeom prst="ellipse">
              <a:avLst/>
            </a:prstGeom>
            <a:gradFill rotWithShape="0">
              <a:gsLst>
                <a:gs pos="0">
                  <a:srgbClr val="f1f626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11640" y="3213360"/>
              <a:ext cx="502560" cy="504720"/>
            </a:xfrm>
            <a:prstGeom prst="ellipse">
              <a:avLst/>
            </a:prstGeom>
            <a:gradFill rotWithShape="0">
              <a:gsLst>
                <a:gs pos="0">
                  <a:srgbClr val="f1f626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11640" y="4507920"/>
              <a:ext cx="502560" cy="504720"/>
            </a:xfrm>
            <a:prstGeom prst="ellipse">
              <a:avLst/>
            </a:prstGeom>
            <a:gradFill rotWithShape="0">
              <a:gsLst>
                <a:gs pos="0">
                  <a:srgbClr val="f1f626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11640" y="5084640"/>
              <a:ext cx="502560" cy="504000"/>
            </a:xfrm>
            <a:prstGeom prst="ellipse">
              <a:avLst/>
            </a:prstGeom>
            <a:gradFill rotWithShape="0">
              <a:gsLst>
                <a:gs pos="0">
                  <a:srgbClr val="f1f626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11640" y="5733000"/>
              <a:ext cx="502560" cy="506520"/>
            </a:xfrm>
            <a:prstGeom prst="ellipse">
              <a:avLst/>
            </a:prstGeom>
            <a:gradFill rotWithShape="0">
              <a:gsLst>
                <a:gs pos="0">
                  <a:srgbClr val="f1f626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7451640" y="573408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12000" y="3860640"/>
            <a:ext cx="503280" cy="50508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12000" y="450864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12000" y="5084640"/>
            <a:ext cx="503280" cy="50508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12000" y="573408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32720" y="263700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32720" y="3860640"/>
            <a:ext cx="503280" cy="50508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32720" y="3213000"/>
            <a:ext cx="503280" cy="50508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32720" y="450864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32720" y="5084640"/>
            <a:ext cx="503280" cy="50508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732720" y="573408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451640" y="328464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451640" y="263700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451640" y="393228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451640" y="450864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51640" y="515772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101080" y="5734080"/>
            <a:ext cx="503280" cy="504720"/>
          </a:xfrm>
          <a:prstGeom prst="ellipse">
            <a:avLst/>
          </a:prstGeom>
          <a:gradFill rotWithShape="0">
            <a:gsLst>
              <a:gs pos="0">
                <a:srgbClr val="f1f62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40464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numbers from 1 through 19 in the circles so that the numbers in every 3 circles on a straight line total 3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roblems can either be displayed for a whole class on a smart board or data proj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uld be given the file and “play” with each puzzle in edit mode by selecting and moving the textboxes containing the numbers. (they can’t move the numbers in view-show m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295200"/>
            <a:ext cx="8496000" cy="626760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755640" y="191628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2916360" y="191628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5003640" y="1916280"/>
            <a:ext cx="648000" cy="360360"/>
          </a:xfrm>
          <a:prstGeom prst="rightArrow">
            <a:avLst>
              <a:gd name="adj1" fmla="val 50000"/>
              <a:gd name="adj2" fmla="val 449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7236000" y="191628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6" action="ppaction://hlinksldjump"/>
          </p:cNvPr>
          <p:cNvSpPr/>
          <p:nvPr/>
        </p:nvSpPr>
        <p:spPr>
          <a:xfrm>
            <a:off x="900000" y="4005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7" action="ppaction://hlinksldjump"/>
          </p:cNvPr>
          <p:cNvSpPr/>
          <p:nvPr/>
        </p:nvSpPr>
        <p:spPr>
          <a:xfrm>
            <a:off x="826920" y="6093000"/>
            <a:ext cx="648000" cy="360360"/>
          </a:xfrm>
          <a:prstGeom prst="rightArrow">
            <a:avLst>
              <a:gd name="adj1" fmla="val 50000"/>
              <a:gd name="adj2" fmla="val 449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8" action="ppaction://hlinksldjump"/>
          </p:cNvPr>
          <p:cNvSpPr/>
          <p:nvPr/>
        </p:nvSpPr>
        <p:spPr>
          <a:xfrm>
            <a:off x="5219640" y="4005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9" action="ppaction://hlinksldjump"/>
          </p:cNvPr>
          <p:cNvSpPr/>
          <p:nvPr/>
        </p:nvSpPr>
        <p:spPr>
          <a:xfrm>
            <a:off x="2843280" y="609300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0" action="ppaction://hlinksldjump"/>
          </p:cNvPr>
          <p:cNvSpPr/>
          <p:nvPr/>
        </p:nvSpPr>
        <p:spPr>
          <a:xfrm>
            <a:off x="7093080" y="4005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1" action="ppaction://hlinksldjump"/>
          </p:cNvPr>
          <p:cNvSpPr/>
          <p:nvPr/>
        </p:nvSpPr>
        <p:spPr>
          <a:xfrm>
            <a:off x="2771640" y="4005360"/>
            <a:ext cx="648000" cy="360360"/>
          </a:xfrm>
          <a:prstGeom prst="rightArrow">
            <a:avLst>
              <a:gd name="adj1" fmla="val 50000"/>
              <a:gd name="adj2" fmla="val 449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2" action="ppaction://hlinksldjump"/>
          </p:cNvPr>
          <p:cNvSpPr/>
          <p:nvPr/>
        </p:nvSpPr>
        <p:spPr>
          <a:xfrm>
            <a:off x="7596360" y="6165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3" action="ppaction://hlinksldjump"/>
          </p:cNvPr>
          <p:cNvSpPr/>
          <p:nvPr/>
        </p:nvSpPr>
        <p:spPr>
          <a:xfrm>
            <a:off x="5076720" y="609300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IT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the numbers 1 to 7, once only so that all three lines have the same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many different possibilities a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ve that 6 and 7 cannot be in the sam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ve that the centre of the H must be e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219640" y="2276640"/>
          <a:ext cx="3467160" cy="4105080"/>
        </p:xfrm>
        <a:graphic>
          <a:graphicData uri="http://schemas.openxmlformats.org/drawingml/2006/table">
            <a:tbl>
              <a:tblPr/>
              <a:tblGrid>
                <a:gridCol w="1155600"/>
                <a:gridCol w="1155960"/>
                <a:gridCol w="1155600"/>
              </a:tblGrid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611280" y="105264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9236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928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80000" y="98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98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028000" y="98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CROSS CU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the numbers 1 to 6, onc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ow of 3 must add up to the column of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e that the centre number must be o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different solutions are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932360" y="2133720"/>
          <a:ext cx="3754440" cy="3992400"/>
        </p:xfrm>
        <a:graphic>
          <a:graphicData uri="http://schemas.openxmlformats.org/drawingml/2006/table">
            <a:tbl>
              <a:tblPr/>
              <a:tblGrid>
                <a:gridCol w="1251360"/>
                <a:gridCol w="1251720"/>
                <a:gridCol w="125136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539640" y="98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9236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80000" y="98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48360" y="98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IT ADDS UP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the numbers 1 to 5, onc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ow of 3 must add up to the column of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e that the centre number must be o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different solutions are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98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80000" y="98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076720" y="2421000"/>
          <a:ext cx="3610080" cy="3705120"/>
        </p:xfrm>
        <a:graphic>
          <a:graphicData uri="http://schemas.openxmlformats.org/drawingml/2006/table">
            <a:tbl>
              <a:tblPr/>
              <a:tblGrid>
                <a:gridCol w="1203120"/>
                <a:gridCol w="1203480"/>
                <a:gridCol w="1203480"/>
              </a:tblGrid>
              <a:tr h="12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2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EQUALIZ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the numbers 1 to 6 onc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e totals must be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 that there are only 4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e that the numbers 1 and 6 must b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98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98100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98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98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56360" y="2205000"/>
            <a:ext cx="1079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20000" y="3645000"/>
            <a:ext cx="10792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3645000"/>
            <a:ext cx="1079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56360" y="4941720"/>
            <a:ext cx="1079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4869000"/>
            <a:ext cx="1079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3280" y="4869000"/>
            <a:ext cx="1079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DEDUCT &amp; DEDU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the numbers 1 to 6 once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circle is the positive difference between the two circles below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e that there are only four different ways of doing this if reflections are not cou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124776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4836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56360" y="2205000"/>
            <a:ext cx="1079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20000" y="3645000"/>
            <a:ext cx="10792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5640" y="3645000"/>
            <a:ext cx="1079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27640" y="4941720"/>
            <a:ext cx="1079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85080" y="4869000"/>
            <a:ext cx="1079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941720"/>
            <a:ext cx="1079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364000" y="4652640"/>
            <a:ext cx="287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13520" y="3281040"/>
            <a:ext cx="287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093080" y="4723920"/>
            <a:ext cx="287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27640" y="4653000"/>
            <a:ext cx="28908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85080" y="4653000"/>
            <a:ext cx="28908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20000" y="3284640"/>
            <a:ext cx="28872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Number Go Roun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3500280"/>
            <a:ext cx="403848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ce the numbers 1 to 8 in each space so that all sums are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24776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03280" y="1268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1268280"/>
            <a:ext cx="576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1268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242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242100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807840"/>
                <a:gridCol w="8082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248436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2492280"/>
            <a:ext cx="57636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6381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3:37:48Z</dcterms:created>
  <dc:creator>LHCA</dc:creator>
  <dc:description/>
  <dc:language>en-US</dc:language>
  <cp:lastModifiedBy>AdamsD</cp:lastModifiedBy>
  <dcterms:modified xsi:type="dcterms:W3CDTF">2011-06-06T05:40:22Z</dcterms:modified>
  <cp:revision>4</cp:revision>
  <dc:subject/>
  <dc:title>Place the number puzzles</dc:title>
</cp:coreProperties>
</file>